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F38-38DC-4E92-B797-6FC1D8D7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E9A1-D156-4EF0-8C74-722B3E05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C43E-BF57-4E73-8A5D-C1829718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61A-E467-4AA1-83CF-7FB1CAD0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DE4-3291-4A41-8E0F-E182408C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598-BA17-4B89-BE48-C5254AF9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CBD-FD58-4946-A913-7F78E1CF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706-085D-47C1-8FD6-AF0AF30C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FF8-9B92-47F3-B24F-68B0ED17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309-9DB0-4AC9-A634-6CECB408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8F2-E41B-488E-B241-0A8423C5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0FF-BAD1-468D-9DCB-665887E4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88D3-AAC0-406C-94C4-A847E8D55B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Kozuka Mincho Pro L"/>
              </a:rPr>
              <a:t>Dallas Cowboys Cheerlead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By: Sasha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4419720"/>
            <a:ext cx="281916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228600"/>
            <a:ext cx="6858000" cy="2133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tory on the true Dallas cowbo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ff66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Dallas cowboys 1970’s-08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Std"/>
              </a:rPr>
              <a:t>Dallas Cowboys cheerleaders better known as dcc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583884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Brush Script Std"/>
              </a:rPr>
              <a:t>Dallas favorit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ush Scrip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Std"/>
              </a:rPr>
              <a:t>Jordon chan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ush Scrip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Std"/>
              </a:rPr>
              <a:t>Michelle k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1126200">
            <a:off x="5486400" y="1218960"/>
            <a:ext cx="204156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344800">
            <a:off x="4267080" y="3962160"/>
            <a:ext cx="2057400" cy="2666880"/>
          </a:xfrm>
          <a:prstGeom prst="rect">
            <a:avLst/>
          </a:prstGeom>
          <a:ln w="0">
            <a:noFill/>
          </a:ln>
        </p:spPr>
      </p:pic>
    </p:spTree>
  </p:cSld>
  <p:transition spd="slow" advTm="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Brush Script Std"/>
              </a:rPr>
              <a:t>♥</a:t>
            </a:r>
            <a:r>
              <a:rPr b="0" lang="en-US" sz="4400" spc="-1" strike="noStrike">
                <a:solidFill>
                  <a:srgbClr val="dfd293"/>
                </a:solidFill>
                <a:latin typeface="Brush Script Std"/>
              </a:rPr>
              <a:t>My role model♥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rush Script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rush Script Std"/>
              </a:rPr>
              <a:t>Nicole Hamilt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rot="776400">
            <a:off x="5714640" y="1752480"/>
            <a:ext cx="2793960" cy="3670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 rot="20894400">
            <a:off x="762120" y="2285640"/>
            <a:ext cx="2809800" cy="4191120"/>
          </a:xfrm>
          <a:prstGeom prst="rect">
            <a:avLst/>
          </a:prstGeom>
          <a:ln w="0">
            <a:noFill/>
          </a:ln>
        </p:spPr>
      </p:pic>
    </p:spTree>
  </p:cSld>
  <p:transition spd="slow" advTm="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Brush Script Std"/>
              </a:rPr>
              <a:t>Dallas cowboys coache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ush Script Std"/>
              </a:rPr>
              <a:t>Director ke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6:41:34Z</dcterms:created>
  <dc:creator>769579</dc:creator>
  <dc:description/>
  <dc:language>en-US</dc:language>
  <cp:lastModifiedBy>769579</cp:lastModifiedBy>
  <dcterms:modified xsi:type="dcterms:W3CDTF">2008-12-09T17:08:58Z</dcterms:modified>
  <cp:revision>3</cp:revision>
  <dc:subject/>
  <dc:title>Dallas Cowboys Cheerleaders</dc:title>
</cp:coreProperties>
</file>